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E02-C1E2-4C19-A87D-D3F7FD19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E47-E73E-4E7F-B451-07661CE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1F1-49FB-4D19-B8A8-3A8FA8FA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55E-2EC9-43D0-8AAD-4E9CC21D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B5F-8BE6-44EB-9D8D-C530344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FD4-8150-47D8-828D-0F5766F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185-D689-42E4-9301-1B6BF9C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3CF-2E4D-4F21-9D46-F68A4EA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334-D984-44B1-8966-C52321D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B0A-C069-4761-921F-D87B270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BCD-089C-4B3E-BDA9-C5EA452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38D-597E-4544-9C94-CFEE0B1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73B-AF7A-4621-B931-3614D876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1" action="ppaction://hlinksldjump"/>
          </p:cNvPr>
          <p:cNvSpPr/>
          <p:nvPr/>
        </p:nvSpPr>
        <p:spPr>
          <a:xfrm>
            <a:off x="3429000" y="3276720"/>
            <a:ext cx="1828800" cy="1218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John</cp:lastModifiedBy>
  <dcterms:modified xsi:type="dcterms:W3CDTF">2008-03-09T21:00:55Z</dcterms:modified>
  <cp:revision>25</cp:revision>
  <dc:subject/>
  <dc:title>No Slide Title</dc:title>
</cp:coreProperties>
</file>